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D558-7716-4DD1-9283-CA577058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E1BC-AC32-4E50-8F9C-58A3555B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CDC-7BC6-4E51-93DD-21317A50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CE82-EBF7-42F6-BD1A-FFB40A37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C3697-8CD0-4A03-9ED9-56815B2F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65810-4B4A-41ED-961A-3108087D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6056F-4D86-44B0-9D66-983C41AC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CE9DC-0060-4D9E-B69E-2D37E564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DE8BB-0C1B-48D6-81C8-3288E33C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1919E-472E-4A37-BF2E-878E32D7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62A2B-4A23-44CC-97B8-511F60A2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3F19-B4C8-47DF-8DD6-1C07798B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520B3-0981-4C80-84AF-0F71A7CC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45C20-4966-4DE7-B321-E8808CD8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8A1D2-5A12-4A19-9A77-20BF519D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F2C69-D5C3-4A67-9AFC-BF74B891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CA7B0-1D09-4578-85A5-3DF2CE48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C37F-F00C-45D0-A0FE-51BF8095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390-F44E-4A5B-A0B0-F6A604F7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6476-4C3A-46FD-8C89-0F59BB6C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A489-4167-416E-AFF6-DBF7CAAD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063B-E8CA-49D6-918F-29E2F38C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12D-E52E-4CDC-8EF6-6935BD1E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2429-A582-49AA-95F1-B3037FBE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3C75-F4CF-4797-9161-92FD477F19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961D-DF65-4B26-AE04-0736C1E550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EL TIEMPO PRES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8960" y="23619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tiempo Presente es la forma verbal más amplia; incluso se le ha llegado a denominar el “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architiemp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” del Indic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 el tiempo más neutro de todo el sistema verbal, lo que explica su multitud de us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resente habitu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cción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no continu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que se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repi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.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os sábados voy a la discoteca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uando nos referimos a hechos de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alcance general o universal,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esligados de toda temporalida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Presente gnómico o atempor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e usa par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dar definiciones</a:t>
            </a:r>
            <a:r>
              <a:rPr b="0" lang="es-ES" sz="3200" spc="-1" strike="noStrike">
                <a:solidFill>
                  <a:srgbClr val="ff3300"/>
                </a:solidFill>
                <a:latin typeface="Verdan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expresar una acción que se desarrolla fuera del tiempo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Expresar sentencias, refranes y definiciones científ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Ej.: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Los mamíferos son animales vertebrad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l agua hierve a cien grados – Son las dos y cuarto – Es un chico muy intelig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stos casos se considera lo expresado por el verbo, un </a:t>
            </a: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rasgo que define una situación, como una característica inherente del suje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1.3. </a:t>
            </a: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En relación con el futuro cronólogico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Utilizamos el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prese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uando queremos hablar de un futuro cronólogico cuando queremos presentar la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información como segura y totalmente controlada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muchos casos el empleo de este tiempo va acompañado por un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marcador de tiemp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mañana, el proximo año, el mes que viene...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Mañana vamos a la playa con Luis, vienes con nosotro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Presente es el tiempo más empleado en la lengua hablada (tanto formal como informal) para anunciar cosas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programada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o que van a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llegar de modo na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i en cambio queremos presentar la información como una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predic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usamos el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Futur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Más programa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ste año </a:t>
            </a:r>
            <a:r>
              <a:rPr b="0" i="1" lang="es-ES" sz="2800" spc="-1" strike="noStrike">
                <a:solidFill>
                  <a:srgbClr val="ff3300"/>
                </a:solidFill>
                <a:latin typeface="Verdana"/>
              </a:rPr>
              <a:t>voy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de viaje al extranj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Men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programa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ste año </a:t>
            </a:r>
            <a:r>
              <a:rPr b="0" i="1" lang="es-ES" sz="2800" spc="-1" strike="noStrike">
                <a:solidFill>
                  <a:srgbClr val="ff3300"/>
                </a:solidFill>
                <a:latin typeface="Verdana"/>
              </a:rPr>
              <a:t>iré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de viaje al extranj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1.4. </a:t>
            </a: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En relación con el pasado cronológ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e emplea el Presente referido al pasado cronológico en contextos en que ha aparecido o aparece un marcador de tiemp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onocido también como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Presente histórico o narra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disloca el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tiempo hacia el pasado,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ituándolo así en una perspectiva más cercan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azarillo de Tormes se </a:t>
            </a:r>
            <a:r>
              <a:rPr b="0" i="1" lang="es-ES" sz="2800" spc="-1" strike="noStrike">
                <a:solidFill>
                  <a:srgbClr val="ff3300"/>
                </a:solidFill>
                <a:latin typeface="Verdana"/>
              </a:rPr>
              <a:t>public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durante el reinado de Carlos V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"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Colón </a:t>
            </a:r>
            <a:r>
              <a:rPr b="0" i="1" lang="es-ES" sz="2800" spc="-1" strike="noStrike">
                <a:solidFill>
                  <a:srgbClr val="ff3300"/>
                </a:solidFill>
                <a:latin typeface="Verdana"/>
              </a:rPr>
              <a:t>us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tres carabelas para descubrir América"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Presente con valor de imperativo: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Tiene un valor de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inminencia y con matiz de  orden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,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“Ahora te </a:t>
            </a:r>
            <a:r>
              <a:rPr b="0" i="1" lang="es-ES" sz="2800" spc="-1" strike="noStrike">
                <a:solidFill>
                  <a:srgbClr val="ff3300"/>
                </a:solidFill>
                <a:latin typeface="Verdana"/>
              </a:rPr>
              <a:t>lava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los dientes y </a:t>
            </a:r>
            <a:r>
              <a:rPr b="0" i="1" lang="es-ES" sz="2800" spc="-1" strike="noStrike">
                <a:solidFill>
                  <a:srgbClr val="ff3300"/>
                </a:solidFill>
                <a:latin typeface="Verdana"/>
              </a:rPr>
              <a:t>va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a la cama "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 - .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¡Tú te </a:t>
            </a:r>
            <a:r>
              <a:rPr b="0" i="1" lang="es-ES" sz="2800" spc="-1" strike="noStrike">
                <a:solidFill>
                  <a:srgbClr val="ff3300"/>
                </a:solidFill>
                <a:latin typeface="Verdana"/>
              </a:rPr>
              <a:t>calla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uando el enunciador quiere referirse más especificamente a la situación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concret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n que se encuentra , usa con frecuenci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 + </a:t>
            </a: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gerundi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Carmen </a:t>
            </a:r>
            <a:r>
              <a:rPr b="0" i="1" lang="es-ES" sz="2800" spc="-1" strike="noStrike">
                <a:solidFill>
                  <a:srgbClr val="ff3300"/>
                </a:solidFill>
                <a:latin typeface="Verdana"/>
              </a:rPr>
              <a:t>está cepilland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el per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1" lang="es-ES" sz="3200" spc="-1" strike="noStrike">
                <a:solidFill>
                  <a:srgbClr val="ff3300"/>
                </a:solidFill>
                <a:latin typeface="Verdana"/>
              </a:rPr>
              <a:t>presente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en español es un tiempo verbal </a:t>
            </a:r>
            <a:r>
              <a:rPr b="0" lang="es-ES" sz="3200" spc="-1" strike="noStrike">
                <a:solidFill>
                  <a:srgbClr val="ff3300"/>
                </a:solidFill>
                <a:latin typeface="Verdana"/>
              </a:rPr>
              <a:t>absoluto y de aspecto Imperfectiv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, porque la acción  no se refiere exactamente a una acción terminad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esde un punto de vista teórico, el presente es un instante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constanteme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cambiante e inas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uede explica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cciones actuales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cciones pasadas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utura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temporales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habituale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órdenes.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Sastre Ruano, 1995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, frente al pretérito y el futuro, la forma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no marcad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y por tanto es inclusiv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uede utilizarse para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indicar el pasado 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l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futur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si bien se refuerza ese matiz con complementos circunstanciales de tiempo) como se aprecia en sus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valores traslad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Presente Dura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que se refiere a un estado de cosas que se mantiene a través del tiempo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"El museo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exhib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las obras de Miró"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Presente Gnómico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,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utilizado por ejemplo en la formulación de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refranes y dichos popular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"A quien madruga Dios le ayuda"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Presente históric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usado para referirse a hechos sucedidos en la historia que estrictamente hablando ya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son parte del pasado para acercarlos al presen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"El hombre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lleg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a la luna en 1969"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Presente por Futuro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,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que se refiere al uso del presente en reemplazo del empleo del futuro para expresar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situaciones o hechos que aún no ocurre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"Mañana </a:t>
            </a:r>
            <a:r>
              <a:rPr b="0" i="1" lang="es-ES" sz="2800" spc="-1" strike="noStrike">
                <a:solidFill>
                  <a:srgbClr val="ff330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el cumpleaños de Pep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"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Presente por Imperativo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,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on el que nos encontramos al usar el presente en vez de los tiempos propiamente imperativos de la lengua castellana: "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Te calla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"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Presente en prótasis condi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Si lo </a:t>
            </a:r>
            <a:r>
              <a:rPr b="0" i="1" lang="es-ES" sz="2800" spc="-1" strike="noStrike">
                <a:solidFill>
                  <a:srgbClr val="ff3300"/>
                </a:solidFill>
                <a:latin typeface="Verdana"/>
              </a:rPr>
              <a:t>v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, dile que me llame".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te tiempo está estrechamente relacionado con un </a:t>
            </a: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presente cronológico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, con el </a:t>
            </a: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futuro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 y el </a:t>
            </a: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pasado cronológ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osee un </a:t>
            </a: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valor universal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desligado de un momento preciso del tiempo cronológico si se us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para dar y pedir información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para dar y pedir instrucciones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para pedir favores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para dar defini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Usamos el Presente: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ara afirmar cosas del presente conológico que presentamos como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seguras y totalmente controlad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ituaciones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regular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ara hablar de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cosas habituales en el prese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usa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resente de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soler + infini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generalmente/normalmente/habitualmente</a:t>
            </a:r>
            <a:r>
              <a:rPr b="0" lang="es-ES" sz="2800" spc="-1" strike="noStrike">
                <a:solidFill>
                  <a:srgbClr val="66ff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+ presente de indica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Normalmente vamos al cine los jue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Suele tomar café con leche por la maña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ituaciones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momentáneas  o de dura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limitad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indica una acción que incluye el tiempo presente. Esta acción puede ser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puntual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o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durat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emplos: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3300"/>
                </a:solidFill>
                <a:latin typeface="Verdana"/>
              </a:rPr>
              <a:t>En este moment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, el ganador </a:t>
            </a:r>
            <a:r>
              <a:rPr b="0" i="1" lang="es-ES" sz="2800" spc="-1" strike="noStrike">
                <a:solidFill>
                  <a:srgbClr val="ff3300"/>
                </a:solidFill>
                <a:latin typeface="Verdana"/>
              </a:rPr>
              <a:t>entr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en la met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La "operación salida" se </a:t>
            </a:r>
            <a:r>
              <a:rPr b="0" i="1" lang="it-IT" sz="2800" spc="-1" strike="noStrike">
                <a:solidFill>
                  <a:srgbClr val="ff3300"/>
                </a:solidFill>
                <a:latin typeface="Verdana"/>
              </a:rPr>
              <a:t>efectúa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 con normalidad.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Ahora  </a:t>
            </a:r>
            <a:r>
              <a:rPr b="0" i="1" lang="es-ES" sz="2800" spc="-1" strike="noStrike">
                <a:solidFill>
                  <a:srgbClr val="ff3300"/>
                </a:solidFill>
                <a:latin typeface="Verdana"/>
              </a:rPr>
              <a:t>tiene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sueño y no quiere hablar conti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23T11:17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